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1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C7DCC-247C-4400-818A-5894D76B34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eated by Educational Technology Network. www.edtechnetwork.com 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10E13-5A8C-4DE8-9103-17AB731960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B8F17-621E-4043-A86C-350DBBD53F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09835-2669-4ECD-B57A-29C53B2712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B2F85-430E-4138-B6D7-890B4646C0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FA7F1-28B1-4274-88A4-B50598B49A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1C6DE-4E2A-4441-A715-F6110A62E9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2497D-2A28-4806-86D9-950601573F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1AFC5-3715-4A1E-9803-A4D9E3417C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6A825-3D9E-4FC5-9171-31FEA93E0E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04395-2684-4E71-A3BC-E289126443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0E97D-E58C-4842-B6FD-234B080C67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5A9D8-05DA-41BF-A389-8135854CB6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33D6A-A59A-4436-90C1-84ADB142BB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47BAF-E8F7-4BFF-858C-5AACC9A2F3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9C413-97FB-4BB7-AA27-04987D7441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4E781-BACF-41DA-A577-7C9B5CAE6E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5B821-DDAB-4112-830D-6506CBF379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71BAC-39A1-403C-B007-5CAF0F9DE1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75E52-C4EB-43FA-9C18-7B34046E92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E3CEB-4D8A-4D91-9065-4C18031336B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7C37B-04CF-4220-8DDD-00A898B51A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FDCFE-03B8-402C-A22A-4E6BC3B9C2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C7E3F-ECBB-4D4E-A9DA-3ECF134D81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33732-0EC0-4FE8-8782-11534DDF42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1C5F3-8366-4F47-B165-60245E036F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36F0F-AA6E-4965-83CA-097C7CB683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1B22F-78FB-4B71-9E9C-5EA9740768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8C9C9-A173-47E3-9111-8A038A86C1C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5A828-16CB-4BB2-8761-8B04E27DDC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C74FF-E912-4DF1-B548-39DF9A964D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B3EB9-9142-41EC-A937-BD7715879A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8521B-D8BD-4014-92E5-D9493D08C0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D1B29-64B1-452E-814C-F17A9FA0FE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9321D-42FB-4E40-854F-053480A5E0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F378F-51DB-4636-A521-8DC7B412A1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FF295-C975-4306-A2FB-5EBE815768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CAB42-B1CC-49D0-9626-A583DAB4B6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1B73C-DB5B-4BF6-AD3A-435296C11A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A2413-B642-4BE0-9759-467BF336D1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575BC-CBA6-4A08-9946-E31EC38273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F1E0A-76A4-4BD9-B55F-72793EFBBC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0E5A6-F585-4B1E-B0DA-77871927A1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9640E-6783-437C-8FA8-F1B3B9DB55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F889E-7005-44F7-93D4-1CA7086FC3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D818E-4A6E-4DCF-98B0-507BEF0FA9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F1215-F877-484D-8D00-D27A469334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F85B9-B96A-41A4-A4D9-46758E04E7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AC1FD-53B8-4FBC-B7BD-AC1E37CC48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D0F7A-5895-4795-90F9-12A506B6B5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75E24-16BB-47DD-AECA-FD3422BF88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C302C-600D-4140-A938-EBE22E9669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71AFA-6E56-4A52-83F6-DE39A70DCD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BB4F2-5D29-4120-B73F-774B957B8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68DCD-074B-4F21-8470-8E9AD79F0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E7900-AE57-440A-97F4-7264DBF04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A21A8-827E-484C-8467-E3D63EFEC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29571-CF86-450C-A23F-9167FCC8D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1B71F-B01B-4A94-8EC9-D68F42081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407C1-17B0-46C9-97B5-B3A4E81A8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4B257-3C1D-4C7F-85BE-334BEA5F4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63AFC-E6DA-407D-8DB0-D3101A8A5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F2285-AC4A-4EC8-BAF7-3F558A999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01662-CCC3-4604-9A00-211BB434B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A4016-6FDE-4505-B637-51D209C5A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77412-C231-4F37-B5AA-44440570E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35094-BFAF-43D4-84A6-473926445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BE46D-B3C0-464A-882B-D5F5C29C1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F6414-F69A-43B5-91B3-2880C54E5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E4BA4-793B-4292-A97C-A60F0FFC8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C820F-893E-43A8-A9C9-C75BC1D09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33AAC-C41C-4A63-81BA-0C083BC77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21FC1-C392-4CE4-BB2C-365B3771E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F55B1-E4F0-4D9E-8949-DF3305D83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66609-8DFE-4B99-9172-8C0477749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777D2-8284-4BE4-815C-22A77BA91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15D59-3D25-419B-BDA4-93AB113CC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f56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5DDCD-AFA9-4815-8EAD-4D7B8C5BAD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f56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13.xml"/><Relationship Id="rId3" Type="http://schemas.openxmlformats.org/officeDocument/2006/relationships/slide" Target="slide23.xml"/><Relationship Id="rId4" Type="http://schemas.openxmlformats.org/officeDocument/2006/relationships/slide" Target="slide33.xml"/><Relationship Id="rId5" Type="http://schemas.openxmlformats.org/officeDocument/2006/relationships/slide" Target="slide43.xml"/><Relationship Id="rId6" Type="http://schemas.openxmlformats.org/officeDocument/2006/relationships/slide" Target="slide5.xml"/><Relationship Id="rId7" Type="http://schemas.openxmlformats.org/officeDocument/2006/relationships/slide" Target="slide15.xml"/><Relationship Id="rId8" Type="http://schemas.openxmlformats.org/officeDocument/2006/relationships/slide" Target="slide25.xml"/><Relationship Id="rId9" Type="http://schemas.openxmlformats.org/officeDocument/2006/relationships/slide" Target="slide35.xml"/><Relationship Id="rId10" Type="http://schemas.openxmlformats.org/officeDocument/2006/relationships/slide" Target="slide45.xml"/><Relationship Id="rId11" Type="http://schemas.openxmlformats.org/officeDocument/2006/relationships/slide" Target="slide7.xml"/><Relationship Id="rId12" Type="http://schemas.openxmlformats.org/officeDocument/2006/relationships/slide" Target="slide17.xml"/><Relationship Id="rId13" Type="http://schemas.openxmlformats.org/officeDocument/2006/relationships/slide" Target="slide27.xml"/><Relationship Id="rId14" Type="http://schemas.openxmlformats.org/officeDocument/2006/relationships/slide" Target="slide37.xml"/><Relationship Id="rId15" Type="http://schemas.openxmlformats.org/officeDocument/2006/relationships/slide" Target="slide47.xml"/><Relationship Id="rId16" Type="http://schemas.openxmlformats.org/officeDocument/2006/relationships/slide" Target="slide9.xml"/><Relationship Id="rId17" Type="http://schemas.openxmlformats.org/officeDocument/2006/relationships/slide" Target="slide19.xml"/><Relationship Id="rId18" Type="http://schemas.openxmlformats.org/officeDocument/2006/relationships/slide" Target="slide29.xml"/><Relationship Id="rId19" Type="http://schemas.openxmlformats.org/officeDocument/2006/relationships/slide" Target="slide39.xml"/><Relationship Id="rId20" Type="http://schemas.openxmlformats.org/officeDocument/2006/relationships/slide" Target="slide49.xml"/><Relationship Id="rId21" Type="http://schemas.openxmlformats.org/officeDocument/2006/relationships/slide" Target="slide11.xml"/><Relationship Id="rId22" Type="http://schemas.openxmlformats.org/officeDocument/2006/relationships/slide" Target="slide21.xml"/><Relationship Id="rId23" Type="http://schemas.openxmlformats.org/officeDocument/2006/relationships/slide" Target="slide31.xml"/><Relationship Id="rId24" Type="http://schemas.openxmlformats.org/officeDocument/2006/relationships/slide" Target="slide41.xml"/><Relationship Id="rId25" Type="http://schemas.openxmlformats.org/officeDocument/2006/relationships/slide" Target="slide51.xml"/><Relationship Id="rId26" Type="http://schemas.openxmlformats.org/officeDocument/2006/relationships/slideLayout" Target="../slideLayouts/slideLayout1.xml"/><Relationship Id="rId27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3" descr="JeopardyIcon5.png"/>
          <p:cNvPicPr/>
          <p:nvPr/>
        </p:nvPicPr>
        <p:blipFill>
          <a:blip r:embed="rId1"/>
          <a:stretch/>
        </p:blipFill>
        <p:spPr>
          <a:xfrm>
            <a:off x="0" y="171360"/>
            <a:ext cx="9280440" cy="3867120"/>
          </a:xfrm>
          <a:prstGeom prst="rect">
            <a:avLst/>
          </a:prstGeom>
          <a:ln w="0">
            <a:noFill/>
          </a:ln>
        </p:spPr>
      </p:pic>
      <p:pic>
        <p:nvPicPr>
          <p:cNvPr id="90" name="TextBox 4" descr=""/>
          <p:cNvPicPr/>
          <p:nvPr/>
        </p:nvPicPr>
        <p:blipFill>
          <a:blip r:embed="rId2"/>
          <a:stretch/>
        </p:blipFill>
        <p:spPr>
          <a:xfrm>
            <a:off x="987480" y="4095720"/>
            <a:ext cx="709596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nswer 1 – 40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owl and Other Poems.”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11" name="Picture 2" descr="C:\Users\Robin\AppData\Local\Microsoft\Windows\Temporary Internet Files\Content.IE5\UKPIYV1G\MCj04421220000[1].png"/>
          <p:cNvPicPr/>
          <p:nvPr/>
        </p:nvPicPr>
        <p:blipFill>
          <a:blip r:embed="rId1"/>
          <a:stretch/>
        </p:blipFill>
        <p:spPr>
          <a:xfrm>
            <a:off x="8229600" y="6138720"/>
            <a:ext cx="7239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Question 1 - 50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Our heads are round so ______ can change direction” 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ll in the Blank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nswer 1 – 50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ought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16" name="Picture 2" descr="C:\Users\Robin\AppData\Local\Microsoft\Windows\Temporary Internet Files\Content.IE5\UKPIYV1G\MCj04421220000[1].png"/>
          <p:cNvPicPr/>
          <p:nvPr/>
        </p:nvPicPr>
        <p:blipFill>
          <a:blip r:embed="rId1"/>
          <a:stretch/>
        </p:blipFill>
        <p:spPr>
          <a:xfrm>
            <a:off x="8229600" y="6138720"/>
            <a:ext cx="7239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Question 2 - 10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hat countries were Ginsberg expelled from in 1965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nswer 2 – 10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uba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zechoslovakia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1" name="Picture 2" descr="C:\Users\Robin\AppData\Local\Microsoft\Windows\Temporary Internet Files\Content.IE5\UKPIYV1G\MCj04421220000[1].png"/>
          <p:cNvPicPr/>
          <p:nvPr/>
        </p:nvPicPr>
        <p:blipFill>
          <a:blip r:embed="rId1"/>
          <a:stretch/>
        </p:blipFill>
        <p:spPr>
          <a:xfrm>
            <a:off x="8229600" y="6138720"/>
            <a:ext cx="7239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Question 2 - 20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hat religion did he convert to after he left Judaism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nswer 2 – 20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Buddahism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6" name="Picture 2" descr="C:\Users\Robin\AppData\Local\Microsoft\Windows\Temporary Internet Files\Content.IE5\UKPIYV1G\MCj04421220000[1].png"/>
          <p:cNvPicPr/>
          <p:nvPr/>
        </p:nvPicPr>
        <p:blipFill>
          <a:blip r:embed="rId1"/>
          <a:stretch/>
        </p:blipFill>
        <p:spPr>
          <a:xfrm>
            <a:off x="8229600" y="6138720"/>
            <a:ext cx="7239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Question 2 - 30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hat other activities was Allen fond of later in life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nswer 2 – 30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hotography and music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31" name="Picture 2" descr="C:\Users\Robin\AppData\Local\Microsoft\Windows\Temporary Internet Files\Content.IE5\UKPIYV1G\MCj04421220000[1].png"/>
          <p:cNvPicPr/>
          <p:nvPr/>
        </p:nvPicPr>
        <p:blipFill>
          <a:blip r:embed="rId1"/>
          <a:stretch/>
        </p:blipFill>
        <p:spPr>
          <a:xfrm>
            <a:off x="8229600" y="6138720"/>
            <a:ext cx="7239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Question 2 - 40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hat was the drug Allen Ginsberg signed up to be a test subject for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1828800"/>
                <a:gridCol w="1828800"/>
                <a:gridCol w="1828800"/>
                <a:gridCol w="1828800"/>
                <a:gridCol w="1828800"/>
              </a:tblGrid>
              <a:tr h="1143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Quot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nteresting Fact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nfluence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amous Work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Life Story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3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  <a:hlinkClick r:id="rId1" action="ppaction://hlinksldjump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  <a:hlinkClick r:id="rId2" action="ppaction://hlinksldjump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  <a:hlinkClick r:id="rId3" action="ppaction://hlinksldjump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  <a:hlinkClick r:id="rId4" action="ppaction://hlinksldjump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  <a:hlinkClick r:id="rId5" action="ppaction://hlinksldjump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3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  <a:hlinkClick r:id="rId6" action="ppaction://hlinksldjump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  <a:hlinkClick r:id="rId7" action="ppaction://hlinksldjump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  <a:hlinkClick r:id="rId8" action="ppaction://hlinksldjump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  <a:hlinkClick r:id="rId9" action="ppaction://hlinksldjump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  <a:hlinkClick r:id="rId10" action="ppaction://hlinksldjump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3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  <a:hlinkClick r:id="rId11" action="ppaction://hlinksldjump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  <a:hlinkClick r:id="rId12" action="ppaction://hlinksldjump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  <a:hlinkClick r:id="rId13" action="ppaction://hlinksldjump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  <a:hlinkClick r:id="rId14" action="ppaction://hlinksldjump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  <a:hlinkClick r:id="rId15" action="ppaction://hlinksldjump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3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  <a:hlinkClick r:id="rId16" action="ppaction://hlinksldjump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  <a:hlinkClick r:id="rId17" action="ppaction://hlinksldjump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  <a:hlinkClick r:id="rId18" action="ppaction://hlinksldjump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  <a:hlinkClick r:id="rId19" action="ppaction://hlinksldjump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  <a:hlinkClick r:id="rId20" action="ppaction://hlinksldjump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3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  <a:hlinkClick r:id="rId21" action="ppaction://hlinksldjump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  <a:hlinkClick r:id="rId22" action="ppaction://hlinksldjump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  <a:hlinkClick r:id="rId23" action="ppaction://hlinksldjump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  <a:hlinkClick r:id="rId24" action="ppaction://hlinksldjump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  <a:hlinkClick r:id="rId25" action="ppaction://hlinksldjump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nswer 2 – 40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LSD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36" name="Picture 2" descr="C:\Users\Robin\AppData\Local\Microsoft\Windows\Temporary Internet Files\Content.IE5\UKPIYV1G\MCj04421220000[1].png"/>
          <p:cNvPicPr/>
          <p:nvPr/>
        </p:nvPicPr>
        <p:blipFill>
          <a:blip r:embed="rId1"/>
          <a:stretch/>
        </p:blipFill>
        <p:spPr>
          <a:xfrm>
            <a:off x="8229600" y="6138720"/>
            <a:ext cx="7239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Question 2 - 50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hat about Allen’s mother had a great impact on his life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nswer 2 – 50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he was mentally ill and eventually admitted to an insane aslyum 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41" name="Picture 2" descr="C:\Users\Robin\AppData\Local\Microsoft\Windows\Temporary Internet Files\Content.IE5\UKPIYV1G\MCj04421220000[1].png"/>
          <p:cNvPicPr/>
          <p:nvPr/>
        </p:nvPicPr>
        <p:blipFill>
          <a:blip r:embed="rId1"/>
          <a:stretch/>
        </p:blipFill>
        <p:spPr>
          <a:xfrm>
            <a:off x="8229600" y="6138720"/>
            <a:ext cx="7239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Question 3 - 10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ow did Ginsberg first learn about poetry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nswer 3 – 10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533520" y="198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is father recited poetry to Allen and his brother when they were younger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46" name="Picture 2" descr="C:\Users\Robin\AppData\Local\Microsoft\Windows\Temporary Internet Files\Content.IE5\UKPIYV1G\MCj04421220000[1].png"/>
          <p:cNvPicPr/>
          <p:nvPr/>
        </p:nvPicPr>
        <p:blipFill>
          <a:blip r:embed="rId1"/>
          <a:stretch/>
        </p:blipFill>
        <p:spPr>
          <a:xfrm>
            <a:off x="8229600" y="6138720"/>
            <a:ext cx="7239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Question 3 - 20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ho was Allen’s favorite poet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nswer 3 – 20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alt Whitman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51" name="Picture 2" descr="C:\Users\Robin\AppData\Local\Microsoft\Windows\Temporary Internet Files\Content.IE5\UKPIYV1G\MCj04421220000[1].png"/>
          <p:cNvPicPr/>
          <p:nvPr/>
        </p:nvPicPr>
        <p:blipFill>
          <a:blip r:embed="rId1"/>
          <a:stretch/>
        </p:blipFill>
        <p:spPr>
          <a:xfrm>
            <a:off x="8229600" y="6138720"/>
            <a:ext cx="7239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Question 3 - 30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hat were some older “Beat Generation” authors that helped Ginsberg become involved in poetry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nswer 3 – 30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illiam S. Burroughs, Neal Cassidy, Jack Kerouac, David Krammer, Herbert Huncke, and Lucien Carr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56" name="Picture 2" descr="C:\Users\Robin\AppData\Local\Microsoft\Windows\Temporary Internet Files\Content.IE5\UKPIYV1G\MCj04421220000[1].png"/>
          <p:cNvPicPr/>
          <p:nvPr/>
        </p:nvPicPr>
        <p:blipFill>
          <a:blip r:embed="rId1"/>
          <a:stretch/>
        </p:blipFill>
        <p:spPr>
          <a:xfrm>
            <a:off x="8229600" y="6138720"/>
            <a:ext cx="7239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Question 3 - 40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hat famous poet was Ginsberg often compared to?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Question 1 - 10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What was one of Allen Ginsberg’s most famous quotes?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nswer 3 – 40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alt Whitman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61" name="Picture 2" descr="C:\Users\Robin\AppData\Local\Microsoft\Windows\Temporary Internet Files\Content.IE5\UKPIYV1G\MCj04421220000[1].png"/>
          <p:cNvPicPr/>
          <p:nvPr/>
        </p:nvPicPr>
        <p:blipFill>
          <a:blip r:embed="rId1"/>
          <a:stretch/>
        </p:blipFill>
        <p:spPr>
          <a:xfrm>
            <a:off x="8229600" y="6138720"/>
            <a:ext cx="7239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Question 3 - 50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hat teacher introduced Ginsberg to Whitman’s work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nswer 3 – 50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is high school teacher, Francis Durbin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66" name="Picture 2" descr="C:\Users\Robin\AppData\Local\Microsoft\Windows\Temporary Internet Files\Content.IE5\UKPIYV1G\MCj04421220000[1].png"/>
          <p:cNvPicPr/>
          <p:nvPr/>
        </p:nvPicPr>
        <p:blipFill>
          <a:blip r:embed="rId1"/>
          <a:stretch/>
        </p:blipFill>
        <p:spPr>
          <a:xfrm>
            <a:off x="8229600" y="6138720"/>
            <a:ext cx="7239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Question 4 - 10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n what year was “Howl and Other Poems,” published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nswer 4 – 10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1956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71" name="Picture 2" descr="C:\Users\Robin\AppData\Local\Microsoft\Windows\Temporary Internet Files\Content.IE5\UKPIYV1G\MCj04421220000[1].png"/>
          <p:cNvPicPr/>
          <p:nvPr/>
        </p:nvPicPr>
        <p:blipFill>
          <a:blip r:embed="rId1"/>
          <a:stretch/>
        </p:blipFill>
        <p:spPr>
          <a:xfrm>
            <a:off x="8229600" y="6138720"/>
            <a:ext cx="7239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Question 4 - 20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hat was the name of the book he wrote with William S. Burroughs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nswer 4 – 20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Yage Letters.”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76" name="Picture 2" descr="C:\Users\Robin\AppData\Local\Microsoft\Windows\Temporary Internet Files\Content.IE5\UKPIYV1G\MCj04421220000[1].png"/>
          <p:cNvPicPr/>
          <p:nvPr/>
        </p:nvPicPr>
        <p:blipFill>
          <a:blip r:embed="rId1"/>
          <a:stretch/>
        </p:blipFill>
        <p:spPr>
          <a:xfrm>
            <a:off x="8229600" y="6138720"/>
            <a:ext cx="7239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Question 4 - 30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hat was Ginsberg’s first published work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nswer 4 – 30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owl and Other Poems.”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81" name="Picture 2" descr="C:\Users\Robin\AppData\Local\Microsoft\Windows\Temporary Internet Files\Content.IE5\UKPIYV1G\MCj04421220000[1].png"/>
          <p:cNvPicPr/>
          <p:nvPr/>
        </p:nvPicPr>
        <p:blipFill>
          <a:blip r:embed="rId1"/>
          <a:stretch/>
        </p:blipFill>
        <p:spPr>
          <a:xfrm>
            <a:off x="8229600" y="6138720"/>
            <a:ext cx="7239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Question 4 - 40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hat poem did Allen write while he was in San Francisco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nswer 1 – 10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llow your inner moonlight; don't hide the madness.” 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6" name="Picture 2" descr="C:\Users\Robin\AppData\Local\Microsoft\Windows\Temporary Internet Files\Content.IE5\UKPIYV1G\MCj04421220000[1].png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229600" y="6138720"/>
            <a:ext cx="7239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nswer 4 – 40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ong.”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86" name="Picture 2" descr="C:\Users\Robin\AppData\Local\Microsoft\Windows\Temporary Internet Files\Content.IE5\UKPIYV1G\MCj04421220000[1].png"/>
          <p:cNvPicPr/>
          <p:nvPr/>
        </p:nvPicPr>
        <p:blipFill>
          <a:blip r:embed="rId1"/>
          <a:stretch/>
        </p:blipFill>
        <p:spPr>
          <a:xfrm>
            <a:off x="8229600" y="6138720"/>
            <a:ext cx="7239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Question 4 - 50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here did Allen first read “Kaddish?”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nswer 4 – 50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olumbia University’s McMillan Theatre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91" name="Picture 2" descr="C:\Users\Robin\AppData\Local\Microsoft\Windows\Temporary Internet Files\Content.IE5\UKPIYV1G\MCj04421220000[1].png"/>
          <p:cNvPicPr/>
          <p:nvPr/>
        </p:nvPicPr>
        <p:blipFill>
          <a:blip r:embed="rId1"/>
          <a:stretch/>
        </p:blipFill>
        <p:spPr>
          <a:xfrm>
            <a:off x="8229600" y="6138720"/>
            <a:ext cx="7239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Question 5 - 10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hat was Allen Ginsberg full name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nswer 5 – 10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rwin Allen Ginsberg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96" name="Picture 2" descr="C:\Users\Robin\AppData\Local\Microsoft\Windows\Temporary Internet Files\Content.IE5\UKPIYV1G\MCj04421220000[1].png"/>
          <p:cNvPicPr/>
          <p:nvPr/>
        </p:nvPicPr>
        <p:blipFill>
          <a:blip r:embed="rId1"/>
          <a:stretch/>
        </p:blipFill>
        <p:spPr>
          <a:xfrm>
            <a:off x="8229600" y="6138720"/>
            <a:ext cx="7239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Question 5 - 20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here did Ginsberg attend college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nswer 5 – 20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olumbia University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01" name="Picture 2" descr="C:\Users\Robin\AppData\Local\Microsoft\Windows\Temporary Internet Files\Content.IE5\UKPIYV1G\MCj04421220000[1].png"/>
          <p:cNvPicPr/>
          <p:nvPr/>
        </p:nvPicPr>
        <p:blipFill>
          <a:blip r:embed="rId1"/>
          <a:stretch/>
        </p:blipFill>
        <p:spPr>
          <a:xfrm>
            <a:off x="8229600" y="6138720"/>
            <a:ext cx="7239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Question 5 - 30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t what college did Ginsberg become a professor at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nswer 5 – 30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Brooklyn College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06" name="Picture 2" descr="C:\Users\Robin\AppData\Local\Microsoft\Windows\Temporary Internet Files\Content.IE5\UKPIYV1G\MCj04421220000[1].png"/>
          <p:cNvPicPr/>
          <p:nvPr/>
        </p:nvPicPr>
        <p:blipFill>
          <a:blip r:embed="rId1"/>
          <a:stretch/>
        </p:blipFill>
        <p:spPr>
          <a:xfrm>
            <a:off x="8229600" y="6138720"/>
            <a:ext cx="7239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Question 5 - 40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hat was the name of Ginsberg’s life-long partner?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Question 1 - 20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hat term was supposedly coined by Ginsberg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nswer 5 – 40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eter Orlovsky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11" name="Picture 2" descr="C:\Users\Robin\AppData\Local\Microsoft\Windows\Temporary Internet Files\Content.IE5\UKPIYV1G\MCj04421220000[1].png"/>
          <p:cNvPicPr/>
          <p:nvPr/>
        </p:nvPicPr>
        <p:blipFill>
          <a:blip r:embed="rId1"/>
          <a:stretch/>
        </p:blipFill>
        <p:spPr>
          <a:xfrm>
            <a:off x="8229600" y="6138720"/>
            <a:ext cx="7239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Question 5 - 50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n what year did Allen Ginsberg die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nswer 5 – 50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1997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16" name="Picture 2" descr="C:\Users\Robin\AppData\Local\Microsoft\Windows\Temporary Internet Files\Content.IE5\UKPIYV1G\MCj04421220000[1].png"/>
          <p:cNvPicPr/>
          <p:nvPr/>
        </p:nvPicPr>
        <p:blipFill>
          <a:blip r:embed="rId1"/>
          <a:stretch/>
        </p:blipFill>
        <p:spPr>
          <a:xfrm>
            <a:off x="8229600" y="6138720"/>
            <a:ext cx="7239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nswer 1 – 20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“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lower Power.”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1" name="Picture 2" descr="C:\Users\Robin\AppData\Local\Microsoft\Windows\Temporary Internet Files\Content.IE5\UKPIYV1G\MCj04421220000[1].png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229600" y="6138720"/>
            <a:ext cx="7239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Question 1 - 30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weight of the world is love. 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Under the burden of solitude, 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under the burden of dissatisfaction 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weight, the weight we carry is ____. ”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ll in the blank 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nswer 1 – 30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Love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6" name="Picture 2" descr="C:\Users\Robin\AppData\Local\Microsoft\Windows\Temporary Internet Files\Content.IE5\UKPIYV1G\MCj04421220000[1].png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229600" y="6138720"/>
            <a:ext cx="7239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Question 1 - 40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Everything is holy! Everybody's holy! Everywhere is holy! Everyday is in eternity! Everyman's an angel!” 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hat poem is this from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08T13:06:01Z</dcterms:created>
  <dc:creator>Educational Technology Network</dc:creator>
  <dc:description>www.edtechnetwork.com</dc:description>
  <cp:keywords>Jeopardy Powerpoint Template;Educational Technology</cp:keywords>
  <dc:language>en-US</dc:language>
  <cp:lastModifiedBy>byremm17</cp:lastModifiedBy>
  <dcterms:modified xsi:type="dcterms:W3CDTF">2013-10-25T17:31:13Z</dcterms:modified>
  <cp:revision>30</cp:revision>
  <dc:subject>Jeopardy Template</dc:subject>
  <dc:title>POWERPOINT JEOPARDY</dc:title>
</cp:coreProperties>
</file>